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76A-D675-4744-8687-46472420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F6A-2B3B-402A-81EA-36A957A2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975-C9B5-443B-977F-8530CA6B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F98-4976-4187-B1BC-2DDEEA29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DFB6-1693-4C0C-92D4-F548C0E22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A1713-FC02-4F78-94BE-587B18D000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D6C4D-C3EE-4C4A-B68F-5A70F9F9CE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E8B84-97D2-43C5-873A-8AB1875D3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91021-B141-4AF8-A794-0650F67AB4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54AA3-A00F-4B12-A3AF-A34679EC2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F07F1-E5D7-4785-8C0F-9BA7B36230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880-1483-4B16-8ECC-D07EAF6F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42C8C-1CE8-40FE-B5A5-E1FA742EE4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19A25-66FD-43FE-8ADD-FDF618002B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59147-CF9A-4137-93E8-7A988730B1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5C163-D32F-4B43-8BF5-0C11EDE6D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D1434-92DD-4CE4-9BCB-AE93FE1EC4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1D1-586C-40D9-886A-AB4E704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3F3-8AE5-40BA-89CF-5EC6D436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BE8-E169-46D9-8981-44A58FA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1BC-664F-4EF6-ACE8-EF4BE675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1BE-F45D-44F0-B109-24780A3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EEB4-533F-4E6A-BDDD-88950F6C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E3F-FC8C-48E9-866C-723372D4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4F1-0C8B-424D-A56A-37DFFCF9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0F05-2FC9-4E5E-B84B-FF9AA67EB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purl.org/tcl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47 … 48 … 49 … 50 … 51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 process, 9 informational, 36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1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3.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3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irst step towards a standard BI 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/TclPr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entative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scitate TclPro as a commercial quality development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 Komodo to make TclPro a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7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8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9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purl.org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/</a:t>
            </a: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wi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purl.org/net/tcl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.lang.tcl(.announce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helpful and friendly as 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ble via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groups.google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etin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newsgroup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ror.utcorp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62640" y="1814400"/>
          <a:ext cx="2895480" cy="1460520"/>
        </p:xfrm>
        <a:graphic>
          <a:graphicData uri="http://schemas.openxmlformats.org/drawingml/2006/table">
            <a:tbl>
              <a:tblPr/>
              <a:tblGrid>
                <a:gridCol w="1447560"/>
                <a:gridCol w="68580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sterVo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al release, now at 8.4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panedwindow, labelfram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for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discussion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Roadmap Pol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Tcl performan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e file support (.jar/.zip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source distribu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binary distributio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2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 Install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2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ing chang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3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OO suppor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50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, modular co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 &amp; Drop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Tk Performanc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ing suppor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90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 abstraction layer (TkGS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awidgets (roll your own)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Widget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60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me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95%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2040" y="6213600"/>
            <a:ext cx="227016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~60-65 attend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908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ctiveTcl 8.3.3.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81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90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7248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sion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1782720"/>
          <a:ext cx="6096240" cy="3352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sterVo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 (de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 - 8.3 (stabl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 or earl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7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in, Februar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0 was the stable version (8.3.x now part of Red Hat and SuSE standard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riptics had released TclPro 1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yet Aju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ore maintainers (Jeff &amp; Er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400800" y="4438800"/>
          <a:ext cx="2247840" cy="1581120"/>
        </p:xfrm>
        <a:graphic>
          <a:graphicData uri="http://schemas.openxmlformats.org/drawingml/2006/table">
            <a:tbl>
              <a:tblPr/>
              <a:tblGrid>
                <a:gridCol w="163800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sterVo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-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… 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pen Source Convention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rey Hobbs</cp:lastModifiedBy>
  <cp:lastPrinted>1999-01-02T23:07:33Z</cp:lastPrinted>
  <dcterms:modified xsi:type="dcterms:W3CDTF">2001-07-27T19:12:50Z</dcterms:modified>
  <cp:revision>401</cp:revision>
  <dc:subject/>
  <dc:title>The (Active) State of Tcl, 2001</dc:title>
</cp:coreProperties>
</file>