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32B-42A4-4927-8A43-468D7388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FB4-F876-4F16-A01C-2A21CE26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9AB-341F-4400-8CB4-D6E28A20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367-6705-4732-BF7E-DBD0E21E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93CA2-B11D-4E00-8455-895CFFE473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4548A-C1CB-4AB3-805A-055E933661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81907-B205-43B9-994B-F28BC84184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4C10D-50B5-4D66-B302-F209D7AF45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0D8D6-A13E-40AF-A878-10D15022EC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EE672-8417-4344-9255-ADBD39CED1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632CD-7E72-4276-BE3D-753501ADF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DC1-9CA2-45BE-A562-9E4E1968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2B08D-9036-4B3F-BBEE-4BAED2B4ED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475A9-7294-49A2-8469-FEAE37CCF2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40816-039B-4070-AA96-01112D0118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C7E4F-8521-4755-9C91-C309CDE9B6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B1063-205F-48AE-AA3F-F65C3D6411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BB6-31A2-417A-8340-F211C7D5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B9D-9AB6-4A46-B05A-54D583C1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4DC-2184-4600-8343-E49CFC62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376-28FB-4900-8360-D0C47374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D62-0247-48A5-894D-93D1F56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DD1-01EA-44F1-8001-F517FEC6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FAC-60B6-444E-A9EA-9DA3A4E0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9749-9804-4351-86C9-8431CC929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5D9C-23C0-4E51-B4D7-AD5EA977D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purl.org/tcl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47 … 48 … 49 … 50 … 51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 process, 9 informational, 36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1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3.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3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irst step towards a standard BI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/TclPr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ntative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scitate TclPro as a commercial quality development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rage Komodo to make TclPro an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7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8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9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purl.org/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/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wi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purl.org/net/tcl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.lang.tcl(.announce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helpful and friendly as 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ble via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groups.google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etin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newsgroup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rror.utcorp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62640" y="1814400"/>
          <a:ext cx="2895480" cy="1460520"/>
        </p:xfrm>
        <a:graphic>
          <a:graphicData uri="http://schemas.openxmlformats.org/drawingml/2006/table">
            <a:tbl>
              <a:tblPr/>
              <a:tblGrid>
                <a:gridCol w="1447560"/>
                <a:gridCol w="685800"/>
                <a:gridCol w="76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sterVo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 release, now at 8.4a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panedwindow, labelframe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for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discussion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Roadmap Po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Tcl performan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1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e file support (.jar/.zip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source distribution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binary distribution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2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 Install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2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ing chang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33%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OO suppor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50%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, modular co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3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g &amp; Drop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3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Tk Performan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1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ing suppor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90%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 abstraction layer (TkGS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2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gawidgets (roll your own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3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Widge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60%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95%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2040" y="6213600"/>
            <a:ext cx="227016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~60-65 attend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908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ctiveTcl 8.3.3.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81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90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7248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sion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1782720"/>
          <a:ext cx="6096240" cy="3352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sterVo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4 (de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 - 8.3 (stabl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 or earl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7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in, Februar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0 was the stable version (8.3.x now part of Red Hat and SuSE standard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ics had released TclPro 1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t yet Ajub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core maintainers (Jeff &amp; Er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400800" y="4438800"/>
          <a:ext cx="2247840" cy="1581120"/>
        </p:xfrm>
        <a:graphic>
          <a:graphicData uri="http://schemas.openxmlformats.org/drawingml/2006/table">
            <a:tbl>
              <a:tblPr/>
              <a:tblGrid>
                <a:gridCol w="163800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sterVo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-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w… 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rey Hobbs</cp:lastModifiedBy>
  <cp:lastPrinted>1999-01-02T23:07:33Z</cp:lastPrinted>
  <dcterms:modified xsi:type="dcterms:W3CDTF">2001-07-27T19:12:50Z</dcterms:modified>
  <cp:revision>401</cp:revision>
  <dc:subject/>
  <dc:title>The (Active) State of Tcl, 2001</dc:title>
</cp:coreProperties>
</file>