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648450" cy="9785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200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576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200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576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3680" y="69840"/>
            <a:ext cx="733428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7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0" y="6400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432480"/>
            <a:ext cx="8915400" cy="4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81720" tIns="40680" bIns="4068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CAWT – COM Automation With Tcl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Page </a:t>
            </a:r>
            <a:fld id="{BB5702ED-A08B-4D3E-B803-707A7F4DD78A}" type="slidenum">
              <a:rPr b="0" lang="de-DE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aul Obermeier, paul@poSoft.de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53280" y="0"/>
            <a:ext cx="990720" cy="83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AWT – COM Automation With Tc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76800" y="2133720"/>
            <a:ext cx="1193760" cy="1753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959640" y="388620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83320" y="259092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38520" y="2655720"/>
            <a:ext cx="124452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CAW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763640" y="4743360"/>
            <a:ext cx="5286600" cy="990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025640"/>
            <a:ext cx="914400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A Work-In-Progress repor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by Paul Oberme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9080" y="6400800"/>
            <a:ext cx="426492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uropean Tcl/Tk User Meeting 2012, Munic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AWT – What it is good for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914400"/>
            <a:ext cx="7993080" cy="20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gh-level Tcl interface f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ripting Windows applications having a COM interfac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wer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oogleEar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tl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050920" y="1916280"/>
            <a:ext cx="6769080" cy="40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AWT – What it is good for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914400"/>
            <a:ext cx="7993080" cy="26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xchange of tabular dat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xcel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ord tabl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bleli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aw imag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tlab MAT-fil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SV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diaWiki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771640" y="1413000"/>
            <a:ext cx="6069240" cy="47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AWT - Histo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1133640"/>
            <a:ext cx="8424720" cy="41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008/09/11 TcomExcel 0.1    Initial release. Support for Excel 2000 and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009/09/19 TcomExcel 0.2    Extended functionality. Added support for Excel 20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010/10/29 TcomExcel 0.3    Bug fixes and extended test progra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011/01/13 TcomExcel 0.3.1  Extended functionality. Added support for Excel 20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011/04/05 TcomExcel 0.3.2  Extended functional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011/07/17 TcomOffice 0.4.0 Renaming of extension to TcomOff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w module TcomWord for Word auto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011/08/28 TcomOffice 0.4.1 Extended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012/01/21 TcomOffice 0.5a3 Alpha release: Use Twapi for COM access instead of Tc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com has no 64-bit support. No active develop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012/??/?? CAWT 1.0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Yet another rename. No Tcom anymo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wapi developer Ashok Nadkarni extends and refactors 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pport in Twapi (currently at version 4.0a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dded (minimal) support for PowerPoint, GoogleEarth, Matla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AWT – Current Wor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1100160"/>
            <a:ext cx="7993080" cy="38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factoring to eliminate duplicate code (using common namespace Caw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d inline documentation (will be converted to HTML with ruff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sertion/extraction speed of large Excel data due to new Value2 function in Twapi version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eed comparison (3 tables with 100x10 cells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etCellValue    (visible): 8400 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etCellValue    (hidden):  7200 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Using clipboard (visible):  150 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Using clipboard (hidden):   110 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Using Value2    (visible):   45 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Using Value2    (hidden):    45 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45080" y="3070080"/>
            <a:ext cx="4390920" cy="31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AWT – Examp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914400"/>
            <a:ext cx="799308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WT comes with lots of test programs showing usage examp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4248360" cy="3419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643280" y="1557360"/>
            <a:ext cx="4321440" cy="34225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79280" y="5157720"/>
            <a:ext cx="419580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reenshot of an Excel workbook consisting of 3 worksheets with 3 different chart types generated by a Tcl scrip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43280" y="5157720"/>
            <a:ext cx="41958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Excel chart was copied to the Windows clipboard with the Twapi extension and pasted into a photo image with the help of the tkImg extens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ul Obermeier</dc:creator>
  <dc:description/>
  <dc:language>en-US</dc:language>
  <cp:lastModifiedBy>Eva</cp:lastModifiedBy>
  <cp:lastPrinted>2008-06-02T20:50:19Z</cp:lastPrinted>
  <dcterms:modified xsi:type="dcterms:W3CDTF">2012-07-04T20:22:22Z</dcterms:modified>
  <cp:revision>177</cp:revision>
  <dc:subject/>
  <dc:title>Cawt presentation EuroTcl 2012</dc:title>
</cp:coreProperties>
</file>