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CAWT – COM Automation With Tcl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79E8BE-81A1-4DD5-A919-918C3DC8133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COM Automation With T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76800" y="2133720"/>
            <a:ext cx="1193760" cy="175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9640" y="38862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3320" y="25909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8520" y="2655720"/>
            <a:ext cx="1244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63640" y="4743360"/>
            <a:ext cx="5286600" cy="99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25640"/>
            <a:ext cx="91440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 Work-In-Progress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by Paul Oberme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9080" y="6400800"/>
            <a:ext cx="42649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uropean Tcl/Tk User Meeting 2012, Muni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What it is good f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14400"/>
            <a:ext cx="799308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gh-level Tcl interface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ing Windows applications having a COM interf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ogle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676908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What it is good f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14400"/>
            <a:ext cx="79930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change of tabular da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cel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ord t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bleli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w im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lab MAT-fi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SV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diaWiki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606924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-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133640"/>
            <a:ext cx="8424720" cy="41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8/09/11 TcomExcel 0.1    Initial release. Support for Excel 2000 and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9/09/19 TcomExcel 0.2    Extended functionality. Added support for Excel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0/10/29 TcomExcel 0.3    Bug fixes and extended test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1/13 TcomExcel 0.3.1  Extended functionality. Added support for Excel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4/05 TcomExcel 0.3.2  Extended functiona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7/17 TcomOffice 0.4.0 Renaming of extension to Tcom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w module TcomWord for Word auto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1/08/28 TcomOffice 0.4.1 Extended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2/01/21 TcomOffice 0.5a3 Alpha release: Use Twapi for COM access instead of T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com has no 64-bit support. No active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12/??/?? CAWT 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Yet another rename. No Tcom any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wapi developer Ashok Nadkarni extends and refactors 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port in Twapi (currently at version 4.0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ed (minimal) support for PowerPoint, GoogleEarth, Mat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Current 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100160"/>
            <a:ext cx="799308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actoring to eliminate duplicate code (using common namespace Caw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 inline documentation (will be converted to HTML with ru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sertion/extraction speed of large Excel data due to new Value2 function in Twapi version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ed comparison (3 tables with 100x10 cell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etCellValue    (visible): 840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etCellValue    (hidden):  720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clipboard (visible):  15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clipboard (hidden):   110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Value2    (visible):   4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Using Value2    (hidden):    4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5080" y="3070080"/>
            <a:ext cx="4390920" cy="31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WT –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14400"/>
            <a:ext cx="79930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WT comes with lots of test programs showing usage exa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248360" cy="34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321440" cy="342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5157720"/>
            <a:ext cx="41958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shot of an Excel workbook consisting of 3 worksheets with 3 different chart types generated by a Tcl scrip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157720"/>
            <a:ext cx="41958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cel chart was copied to the Windows clipboard with the Twapi extension and pasted into a photo image with the help of the tkImg exten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dc:language>en-US</dc:language>
  <cp:lastModifiedBy>Eva</cp:lastModifiedBy>
  <cp:lastPrinted>2008-06-02T20:50:19Z</cp:lastPrinted>
  <dcterms:modified xsi:type="dcterms:W3CDTF">2012-07-04T20:22:22Z</dcterms:modified>
  <cp:revision>177</cp:revision>
  <dc:subject/>
  <dc:title>Cawt presentation EuroTcl 2012</dc:title>
</cp:coreProperties>
</file>