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B86F-5032-40FE-B57E-A7CBDD34B5A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8993-077C-4EC9-B096-3C224A1576F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B9A7-640E-4063-B029-D7EB2324DCC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64880" y="81000"/>
            <a:ext cx="9575640" cy="18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WT – Overview of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1"/>
          <p:cNvSpPr/>
          <p:nvPr/>
        </p:nvSpPr>
        <p:spPr>
          <a:xfrm>
            <a:off x="312840" y="4221000"/>
            <a:ext cx="924696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Tw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cl Windows API ex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6"/>
          <p:cNvSpPr/>
          <p:nvPr/>
        </p:nvSpPr>
        <p:spPr>
          <a:xfrm>
            <a:off x="312840" y="3141720"/>
            <a:ext cx="92469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Basic Auto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8"/>
          <p:cNvSpPr/>
          <p:nvPr/>
        </p:nvSpPr>
        <p:spPr>
          <a:xfrm>
            <a:off x="1496880" y="765000"/>
            <a:ext cx="2160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Google Ea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0"/>
          <p:cNvSpPr/>
          <p:nvPr/>
        </p:nvSpPr>
        <p:spPr>
          <a:xfrm>
            <a:off x="6215040" y="765000"/>
            <a:ext cx="21589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Mat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athWorks Matl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1"/>
          <p:cNvSpPr/>
          <p:nvPr/>
        </p:nvSpPr>
        <p:spPr>
          <a:xfrm>
            <a:off x="312840" y="1914480"/>
            <a:ext cx="21589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Exc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2"/>
          <p:cNvSpPr/>
          <p:nvPr/>
        </p:nvSpPr>
        <p:spPr>
          <a:xfrm>
            <a:off x="5025960" y="1914480"/>
            <a:ext cx="21589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3"/>
          <p:cNvSpPr/>
          <p:nvPr/>
        </p:nvSpPr>
        <p:spPr>
          <a:xfrm>
            <a:off x="7400880" y="1914480"/>
            <a:ext cx="21589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4520" y="3860640"/>
            <a:ext cx="0" cy="360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05600" y="2633760"/>
            <a:ext cx="0" cy="5079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52520" y="2637000"/>
            <a:ext cx="0" cy="5079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481960" y="2637000"/>
            <a:ext cx="0" cy="5079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94680" y="1481040"/>
            <a:ext cx="0" cy="16639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76520" y="1484280"/>
            <a:ext cx="0" cy="16635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2"/>
          <p:cNvSpPr/>
          <p:nvPr/>
        </p:nvSpPr>
        <p:spPr>
          <a:xfrm>
            <a:off x="2685960" y="1916280"/>
            <a:ext cx="215892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wtExplo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MS Internet Explor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65600" y="2635200"/>
            <a:ext cx="0" cy="5079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365200" y="1317600"/>
            <a:ext cx="14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svStringTo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365200" y="1677960"/>
            <a:ext cx="14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trixToCsv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5240160" y="800280"/>
            <a:ext cx="129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2360520" y="1592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2360520" y="195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5240160" y="1035000"/>
            <a:ext cx="133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5228280" y="12319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5232240" y="1484280"/>
            <a:ext cx="134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3800520" y="620640"/>
            <a:ext cx="143964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List of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5"/>
          <p:cNvSpPr/>
          <p:nvPr/>
        </p:nvSpPr>
        <p:spPr>
          <a:xfrm>
            <a:off x="6573960" y="620640"/>
            <a:ext cx="1258920" cy="2376720"/>
          </a:xfrm>
          <a:prstGeom prst="flowChartPredefined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6"/>
          <p:cNvSpPr/>
          <p:nvPr/>
        </p:nvSpPr>
        <p:spPr>
          <a:xfrm>
            <a:off x="1389240" y="1317600"/>
            <a:ext cx="971280" cy="1355760"/>
          </a:xfrm>
          <a:prstGeom prst="flowChartPredefined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CS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7"/>
          <p:cNvSpPr/>
          <p:nvPr/>
        </p:nvSpPr>
        <p:spPr>
          <a:xfrm>
            <a:off x="198360" y="620640"/>
            <a:ext cx="719280" cy="2879640"/>
          </a:xfrm>
          <a:prstGeom prst="can">
            <a:avLst>
              <a:gd name="adj" fmla="val 39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C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>
            <a:off x="917640" y="800280"/>
            <a:ext cx="288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2396520" y="54756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adCsv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0"/>
          <p:cNvSpPr/>
          <p:nvPr/>
        </p:nvSpPr>
        <p:spPr>
          <a:xfrm flipH="1">
            <a:off x="917640" y="1089000"/>
            <a:ext cx="288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2398680" y="836640"/>
            <a:ext cx="10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riteCsv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7761240" y="11970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v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7815240" y="76500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nWork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4"/>
          <p:cNvSpPr/>
          <p:nvPr/>
        </p:nvSpPr>
        <p:spPr>
          <a:xfrm>
            <a:off x="9021600" y="585720"/>
            <a:ext cx="719280" cy="2879640"/>
          </a:xfrm>
          <a:prstGeom prst="can">
            <a:avLst>
              <a:gd name="adj" fmla="val 39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5"/>
          <p:cNvSpPr/>
          <p:nvPr/>
        </p:nvSpPr>
        <p:spPr>
          <a:xfrm flipH="1">
            <a:off x="7832880" y="1015920"/>
            <a:ext cx="11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6"/>
          <p:cNvSpPr/>
          <p:nvPr/>
        </p:nvSpPr>
        <p:spPr>
          <a:xfrm flipH="1">
            <a:off x="7832880" y="1447920"/>
            <a:ext cx="1188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7"/>
          <p:cNvSpPr/>
          <p:nvPr/>
        </p:nvSpPr>
        <p:spPr>
          <a:xfrm flipH="1">
            <a:off x="917640" y="2816280"/>
            <a:ext cx="565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3446640" y="256536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veAsC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ule excelCsv – Procedure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921920" y="78588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1965240" y="10382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026800" y="7858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TablelistTo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1965240" y="14698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999800" y="12175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MatrixToTabl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>
            <a:off x="1965240" y="22622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729320" y="198756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ablelistTo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729320" y="237024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ksheetToTabl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4844880" y="10206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4917240" y="12175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4836960" y="1469880"/>
            <a:ext cx="216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 flipH="1">
            <a:off x="1964880" y="26226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3405240" y="785880"/>
            <a:ext cx="1439640" cy="898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List of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8"/>
          <p:cNvSpPr/>
          <p:nvPr/>
        </p:nvSpPr>
        <p:spPr>
          <a:xfrm>
            <a:off x="7007400" y="606600"/>
            <a:ext cx="1258560" cy="2209680"/>
          </a:xfrm>
          <a:prstGeom prst="flowChartPredefined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0"/>
          <p:cNvSpPr/>
          <p:nvPr/>
        </p:nvSpPr>
        <p:spPr>
          <a:xfrm>
            <a:off x="706320" y="606600"/>
            <a:ext cx="1258920" cy="2209680"/>
          </a:xfrm>
          <a:prstGeom prst="flowChartPredefined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Tabl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ule excelTablelist – Procedure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7472520" y="119700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v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454880" y="76500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nWork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4128120" y="80028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1171440" y="105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256760" y="800280"/>
            <a:ext cx="125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adMatlab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1171440" y="1484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265400" y="1231920"/>
            <a:ext cx="12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riteMatlab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1171440" y="21193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935160" y="185724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tlabFileTo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935160" y="238428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ksheetToMatlab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171440" y="303228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3978000" y="2781360"/>
            <a:ext cx="168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MatlabFileToExcel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051440" y="1035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4123440" y="12319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4043520" y="1484280"/>
            <a:ext cx="216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7"/>
          <p:cNvSpPr/>
          <p:nvPr/>
        </p:nvSpPr>
        <p:spPr>
          <a:xfrm flipH="1">
            <a:off x="1171080" y="2637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45252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611440" y="800280"/>
            <a:ext cx="1440000" cy="898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List of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6213600" y="620640"/>
            <a:ext cx="1258920" cy="2210040"/>
          </a:xfrm>
          <a:prstGeom prst="flowChartPredefined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1"/>
          <p:cNvSpPr/>
          <p:nvPr/>
        </p:nvSpPr>
        <p:spPr>
          <a:xfrm>
            <a:off x="873288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2"/>
          <p:cNvSpPr/>
          <p:nvPr/>
        </p:nvSpPr>
        <p:spPr>
          <a:xfrm>
            <a:off x="1171440" y="335592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3978000" y="3117960"/>
            <a:ext cx="168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ExcelFileToMatlab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4"/>
          <p:cNvSpPr/>
          <p:nvPr/>
        </p:nvSpPr>
        <p:spPr>
          <a:xfrm flipH="1">
            <a:off x="7472160" y="1015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5"/>
          <p:cNvSpPr/>
          <p:nvPr/>
        </p:nvSpPr>
        <p:spPr>
          <a:xfrm flipH="1">
            <a:off x="7472160" y="1447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ule excelMatlabFile – Procedure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921920" y="78588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1965240" y="10382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920600" y="785880"/>
            <a:ext cx="152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WordTableTo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1965240" y="14698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928520" y="1217520"/>
            <a:ext cx="152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MatrixToWord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1965240" y="22622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728960" y="1987560"/>
            <a:ext cx="18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dTableTo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4728960" y="2370240"/>
            <a:ext cx="18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ksheetToWord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4844880" y="10206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4917240" y="12175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4836960" y="1469880"/>
            <a:ext cx="216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H="1">
            <a:off x="1964880" y="26226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3405240" y="785880"/>
            <a:ext cx="1439640" cy="898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List of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5"/>
          <p:cNvSpPr/>
          <p:nvPr/>
        </p:nvSpPr>
        <p:spPr>
          <a:xfrm>
            <a:off x="7007400" y="606600"/>
            <a:ext cx="1258560" cy="2209680"/>
          </a:xfrm>
          <a:prstGeom prst="flowChartPredefined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706320" y="606600"/>
            <a:ext cx="1258920" cy="2209680"/>
          </a:xfrm>
          <a:prstGeom prst="flowChartPredefined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d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ule excelWord – Procedure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7472520" y="119700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v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454880" y="76500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nWork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297320" y="800280"/>
            <a:ext cx="13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1171440" y="105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134000" y="80028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adRawImag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1171440" y="1484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135800" y="123192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riteRawImag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1171440" y="21193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3834360" y="185724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wImageFileTo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3834360" y="238428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ksheetToRawImag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1171440" y="303228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3977280" y="2781360"/>
            <a:ext cx="195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RawImageFileToExcel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4"/>
          <p:cNvSpPr/>
          <p:nvPr/>
        </p:nvSpPr>
        <p:spPr>
          <a:xfrm>
            <a:off x="4051440" y="1035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4291920" y="12319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>
            <a:off x="4043520" y="1484280"/>
            <a:ext cx="216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7"/>
          <p:cNvSpPr/>
          <p:nvPr/>
        </p:nvSpPr>
        <p:spPr>
          <a:xfrm flipH="1">
            <a:off x="1171080" y="2637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45252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Raw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2611440" y="800280"/>
            <a:ext cx="1440000" cy="898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List of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0"/>
          <p:cNvSpPr/>
          <p:nvPr/>
        </p:nvSpPr>
        <p:spPr>
          <a:xfrm>
            <a:off x="6213600" y="620640"/>
            <a:ext cx="1258920" cy="2210040"/>
          </a:xfrm>
          <a:prstGeom prst="flowChartPredefined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1"/>
          <p:cNvSpPr/>
          <p:nvPr/>
        </p:nvSpPr>
        <p:spPr>
          <a:xfrm>
            <a:off x="873288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1171440" y="335592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3977280" y="3117960"/>
            <a:ext cx="195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ExcelFileToRawImag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4"/>
          <p:cNvSpPr/>
          <p:nvPr/>
        </p:nvSpPr>
        <p:spPr>
          <a:xfrm flipH="1">
            <a:off x="7472160" y="1015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5"/>
          <p:cNvSpPr/>
          <p:nvPr/>
        </p:nvSpPr>
        <p:spPr>
          <a:xfrm flipH="1">
            <a:off x="7472160" y="1447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ule excelImgRaw – Procedure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7472520" y="119700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v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7454880" y="76500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nWork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4128120" y="80028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1171440" y="105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134720" y="800280"/>
            <a:ext cx="14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adMediaWiki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>
            <a:off x="1171440" y="1484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136520" y="1231920"/>
            <a:ext cx="148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riteMediaWiki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171440" y="21193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935520" y="1857240"/>
            <a:ext cx="20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diaWikiFileTo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3935520" y="2384280"/>
            <a:ext cx="20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ksheetToMediaWiki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1171440" y="303228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978360" y="2781360"/>
            <a:ext cx="19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diaWikiFileToExcel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4051440" y="1035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4123440" y="12319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4043520" y="1484280"/>
            <a:ext cx="216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 flipH="1">
            <a:off x="1171080" y="2637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8"/>
          <p:cNvSpPr/>
          <p:nvPr/>
        </p:nvSpPr>
        <p:spPr>
          <a:xfrm>
            <a:off x="45252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ediaWi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2611440" y="800280"/>
            <a:ext cx="1440000" cy="898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List of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0"/>
          <p:cNvSpPr/>
          <p:nvPr/>
        </p:nvSpPr>
        <p:spPr>
          <a:xfrm>
            <a:off x="6213600" y="620640"/>
            <a:ext cx="1258920" cy="2210040"/>
          </a:xfrm>
          <a:prstGeom prst="flowChartPredefined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1"/>
          <p:cNvSpPr/>
          <p:nvPr/>
        </p:nvSpPr>
        <p:spPr>
          <a:xfrm>
            <a:off x="873288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1171440" y="335592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3978360" y="3117960"/>
            <a:ext cx="19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ExcelFileToMediaWiki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4"/>
          <p:cNvSpPr/>
          <p:nvPr/>
        </p:nvSpPr>
        <p:spPr>
          <a:xfrm flipH="1">
            <a:off x="7472160" y="1015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5"/>
          <p:cNvSpPr/>
          <p:nvPr/>
        </p:nvSpPr>
        <p:spPr>
          <a:xfrm flipH="1">
            <a:off x="7472160" y="1447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ule excelMediaWiki – Procedure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7472520" y="119700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v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454880" y="765000"/>
            <a:ext cx="12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nWork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4128120" y="80028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1171440" y="105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311120" y="800280"/>
            <a:ext cx="112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adWikit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1171440" y="1484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1352880" y="1231920"/>
            <a:ext cx="11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riteWikit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1171440" y="21193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936960" y="185724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kitFileTo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936960" y="238428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ksheetToWikit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1171440" y="303228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3979800" y="278136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kitFileToExcel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"/>
          <p:cNvSpPr/>
          <p:nvPr/>
        </p:nvSpPr>
        <p:spPr>
          <a:xfrm>
            <a:off x="4051440" y="1035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4123440" y="123192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tMatrix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4043520" y="1484280"/>
            <a:ext cx="216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>
            <a:off x="1171080" y="2637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8"/>
          <p:cNvSpPr/>
          <p:nvPr/>
        </p:nvSpPr>
        <p:spPr>
          <a:xfrm>
            <a:off x="45252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ik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2611440" y="800280"/>
            <a:ext cx="1440000" cy="898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(List of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0"/>
          <p:cNvSpPr/>
          <p:nvPr/>
        </p:nvSpPr>
        <p:spPr>
          <a:xfrm>
            <a:off x="6213600" y="620640"/>
            <a:ext cx="1258920" cy="2210040"/>
          </a:xfrm>
          <a:prstGeom prst="flowChartPredefined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1"/>
          <p:cNvSpPr/>
          <p:nvPr/>
        </p:nvSpPr>
        <p:spPr>
          <a:xfrm>
            <a:off x="8732880" y="585720"/>
            <a:ext cx="718920" cy="2879640"/>
          </a:xfrm>
          <a:prstGeom prst="can">
            <a:avLst>
              <a:gd name="adj" fmla="val 39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2"/>
          <p:cNvSpPr/>
          <p:nvPr/>
        </p:nvSpPr>
        <p:spPr>
          <a:xfrm>
            <a:off x="1171440" y="335592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3"/>
          <p:cNvSpPr/>
          <p:nvPr/>
        </p:nvSpPr>
        <p:spPr>
          <a:xfrm>
            <a:off x="3979800" y="311796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ExcelFileToWikit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4"/>
          <p:cNvSpPr/>
          <p:nvPr/>
        </p:nvSpPr>
        <p:spPr>
          <a:xfrm flipH="1">
            <a:off x="7472160" y="1015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5"/>
          <p:cNvSpPr/>
          <p:nvPr/>
        </p:nvSpPr>
        <p:spPr>
          <a:xfrm flipH="1">
            <a:off x="7472160" y="144792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ule excelWikit – Procedure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22:17:48Z</dcterms:created>
  <dc:creator>Paul Obermeier</dc:creator>
  <dc:description/>
  <dc:language>en-US</dc:language>
  <cp:lastModifiedBy>Paul</cp:lastModifiedBy>
  <dcterms:modified xsi:type="dcterms:W3CDTF">2012-11-17T12:42:13Z</dcterms:modified>
  <cp:revision>37</cp:revision>
  <dc:subject>Figures for Cawt User Manual</dc:subject>
  <dc:title>CawtFigures</dc:title>
</cp:coreProperties>
</file>